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710-810C-4F7D-A98A-01741805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992-EB70-42FB-8AA1-CDF25E8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A33-C71B-4CE2-B616-D1CD4302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FB1-DAA3-417B-91EE-A67C5D06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4F4-50D9-4665-A9A6-EBAF2C3F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F2A-43AE-46DF-B717-01A2B031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E2C-3071-42D9-8188-E882424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246-4740-4C62-8F2C-E595E189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A5E-A5B1-4BDE-9E31-CD5002A1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734-27C9-4084-B412-F943288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BCF-D325-4EA7-923B-667AC94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AD1-49C5-4733-820C-5F1BCDE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D944-B271-4413-9CE7-FDEDBA87E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7.xml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838080"/>
          <a:ext cx="9144000" cy="10652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0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14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19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019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114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114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5105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6019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5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6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7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8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133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5105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9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0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1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2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3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5105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6019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2T18:05:36Z</dcterms:modified>
  <cp:revision>3</cp:revision>
  <dc:subject/>
  <dc:title>Slide 1</dc:title>
</cp:coreProperties>
</file>